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wmf" ContentType="image/x-wmf"/>
  <Override PartName="/ppt/media/image5.gif" ContentType="image/gi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998-F2BF-49E2-8337-B13EBFE3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DA0-0401-4757-AA9A-FCC16580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E61-B58E-4931-819D-1F87FD7E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CDE-0970-40CC-AED9-0F182A37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B24F-D309-4C4D-A4B7-D15F52C0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A470-7126-458F-A72E-A6B27BF2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CE16-007B-4A64-95A6-B23BD6FA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8116-BD70-4F69-98CF-D64E64D6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79DA-8D94-47DC-BCF2-46ED84B4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93CB-7311-496D-A3C3-EE512CC0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EF36-8005-49F9-A549-9C541C17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282-5D15-4779-BBC9-6AE60F96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8BE0-0534-48DE-A353-50CD67E6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E6E6-D864-4E04-B030-CB0B7D07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C773-CC6B-4E0E-B238-54D08DE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05FB-94B4-4074-AB8E-9701B992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D48E-2F08-4668-A80F-63867F88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524-BAF8-438D-B1E2-6E959D7F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D1A-64FE-4CA7-AA93-B9324C35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50D-B528-4268-9B58-B2DDDB41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986-C063-4F7D-8287-6BA26C5B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753-CDAB-40C6-910A-9556F957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06DE-317B-4CB2-B3AD-A3B192C1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7C0-7A85-44FC-92A4-0E5CE64D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4EBE-7C52-4610-B9E1-43D7810315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7472-7D5B-404B-9B44-98A3D19036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Principles of effective pract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esson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Monday 5</a:t>
            </a:r>
            <a:r>
              <a:rPr b="0" lang="en-GB" sz="36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Octob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raining Program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do you need to consider when planning and carrying out a programme of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Principles of effective 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 improve you must consider the following when practis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lear goa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know what you want to improve, be SM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k / rest rati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High quality practise over a short time is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gress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Challenging practices that get gradually more diffic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Motivation / concentrat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have the desire to succeed and be fully focused during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Feedback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must be POSITIVE, accurate and given quickly. Can be intrinsic or extrin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eedb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formation you receive about you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You use it to improve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can highlight your strengths and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492360" y="4076640"/>
            <a:ext cx="3159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Types of feedb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nal (intrins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How the performance felt / Did the action feel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xternal (extrins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formation you get from observation schedules / video analysis / teacher or class m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372360" y="5157720"/>
            <a:ext cx="180000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eedb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must be EFF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ccurate and pre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iven to the performer straight after the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ust focus on what you did well and how further improvements can be m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gative feedback is not effective, must be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Feedb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Good/effective feedback helps you to get better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08360" y="3500280"/>
            <a:ext cx="1655640" cy="20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ue date: Thursday 8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ct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ethod you used to collect data about your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o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forma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4 mar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w describe one method you used to collect data about a specific skill in your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3 mar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lain why both methods you used to collect data were appropri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4 marks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cribe the strengths and weakness in your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4 mar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0:02:57Z</dcterms:created>
  <dc:creator>FlemingC1</dc:creator>
  <dc:description/>
  <dc:language>en-US</dc:language>
  <cp:lastModifiedBy>FlemingC1</cp:lastModifiedBy>
  <dcterms:modified xsi:type="dcterms:W3CDTF">2009-10-05T10:28:05Z</dcterms:modified>
  <cp:revision>2</cp:revision>
  <dc:subject/>
  <dc:title>Skills and techniques  Principles of effective practice</dc:title>
</cp:coreProperties>
</file>